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F125-9C2B-4564-963D-E1E1452F2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1892-DB27-4D74-BFF1-35417224B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00C8-935F-4424-97BE-3A479E5FD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E027-AA8E-4649-BB97-B58005165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127B-C305-4A8D-AB0F-01A69CAA7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0F483-23CD-48E6-AF53-7FA13797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B674-9E92-4F08-ACC0-383E9652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80B9-E75C-47E7-8599-86C142DC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B63E-C2E2-49B0-AE15-4C7FD63E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9D786-26FA-4612-88D8-52A5EFF4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5F4D-087D-48E0-985D-97273F11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7046-411E-413D-AB13-8F3C81E34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2D6A-82B9-43B6-97C6-32CC38A8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2E83-583C-4FA4-AE20-EB909C83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B680-D5A2-4B19-A866-BCC92EA2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6060-8063-4B73-97F9-277AA38B1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6FFEF-2BDE-4540-A1F1-3AA228469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B12D-1220-46AF-B60C-BBFA3AF00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E5BD-10F1-4291-B3D8-A5B507BDB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E3A3-E33B-4B01-9225-02D524063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6079-E322-4C13-B4AC-F6A1FA7F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F489-4FEE-437D-BC2A-0E9F28F3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6091-48EE-49A1-97DF-70BC587B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BEA2-B6EA-4F65-B175-6324E7763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4D59-1791-4561-B262-9CC9E064C4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9F992-A586-45B6-A06B-212502853E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irst Wav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ヒラギノ角ゴ Pro W3"/>
              </a:rPr>
              <a:t>_x0010_It’s is possible that nations such as Kirkbati _x0010_may have already reached a tipping point because of the long delay involved in  reducing greenhouse gas le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ヒラギノ角ゴ Pro W3"/>
              </a:rPr>
              <a:t>-- Andr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8:37:08Z</dcterms:created>
  <dc:creator>PA Department of Education</dc:creator>
  <dc:description/>
  <dc:language>en-US</dc:language>
  <cp:lastModifiedBy>PA Department of Education</cp:lastModifiedBy>
  <dcterms:modified xsi:type="dcterms:W3CDTF">2009-05-27T18:31:44Z</dcterms:modified>
  <cp:revision>3</cp:revision>
  <dc:subject/>
  <dc:title>Something  </dc:title>
</cp:coreProperties>
</file>